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148-49F3-4E05-833E-A232994C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EC9-432F-41E8-97E4-650CB934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D11-EA45-45B2-8991-3263199D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5D9-1E8B-44A1-B10F-CA6ADFA3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6E30-3496-4787-90B6-E5D790EE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34B-E9C6-4579-A289-198B9971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AF3-44C9-4AE7-9599-FA502906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F6B-AB71-45F1-BDEE-BE4677D7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B49-F000-4B31-AD6A-B889AC72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3D8-2A2D-4AE0-8911-45F5C30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BA0-E994-4E44-9607-52BD75DF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B7B-4CDA-48CD-8782-D5712293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99E-4240-40C8-9548-E4982ECAA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eatricepublicschools.org/vslideshow/viewer.v?zoom=1&amp;publication_id=&amp;slideshow_id=4378bb1511262&amp;slide_num=9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400640" cy="586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9880" y="6019920"/>
            <a:ext cx="164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ow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97240" y="533520"/>
            <a:ext cx="412092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733920" y="6019920"/>
            <a:ext cx="1447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n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11360" y="685800"/>
            <a:ext cx="394992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505320" y="6019920"/>
            <a:ext cx="23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now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1360" y="685800"/>
            <a:ext cx="3835440" cy="510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733920" y="594360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eri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55920" y="45720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200400" y="5943600"/>
            <a:ext cx="29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moufl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240" y="53352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124080" y="6019920"/>
            <a:ext cx="2695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cle S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40000" y="45720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352680" y="6019920"/>
            <a:ext cx="2133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ac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54120" y="609480"/>
            <a:ext cx="3892680" cy="5181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819520" y="5791320"/>
            <a:ext cx="35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tted pupp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895480" y="5867280"/>
            <a:ext cx="354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ckey Mou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523880" y="5791320"/>
            <a:ext cx="575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night in shining arm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733920" y="5410080"/>
            <a:ext cx="1724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lgr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183200" cy="556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00400" y="6019920"/>
            <a:ext cx="29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eerlea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590920" y="5562720"/>
            <a:ext cx="43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sketball 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581280" y="5638680"/>
            <a:ext cx="192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ac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33920" y="5638680"/>
            <a:ext cx="1695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d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Slid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8380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581280" y="579132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n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429000" y="56386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in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Slide image"/>
          <p:cNvPicPr/>
          <p:nvPr/>
        </p:nvPicPr>
        <p:blipFill>
          <a:blip r:embed="rId1"/>
          <a:stretch/>
        </p:blipFill>
        <p:spPr>
          <a:xfrm>
            <a:off x="1676520" y="990720"/>
            <a:ext cx="5486400" cy="4124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962520" y="5715000"/>
            <a:ext cx="1390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ur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Slide image"/>
          <p:cNvPicPr/>
          <p:nvPr/>
        </p:nvPicPr>
        <p:blipFill>
          <a:blip r:embed="rId1"/>
          <a:stretch/>
        </p:blipFill>
        <p:spPr>
          <a:xfrm>
            <a:off x="1447920" y="609480"/>
            <a:ext cx="601956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657600" y="5562720"/>
            <a:ext cx="149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ow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lide image"/>
          <p:cNvPicPr/>
          <p:nvPr/>
        </p:nvPicPr>
        <p:blipFill>
          <a:blip r:embed="rId1"/>
          <a:stretch/>
        </p:blipFill>
        <p:spPr>
          <a:xfrm>
            <a:off x="1523880" y="685800"/>
            <a:ext cx="60199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743200" y="5638680"/>
            <a:ext cx="36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otball 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Slide image"/>
          <p:cNvPicPr/>
          <p:nvPr/>
        </p:nvPicPr>
        <p:blipFill>
          <a:blip r:embed="rId1"/>
          <a:stretch/>
        </p:blipFill>
        <p:spPr>
          <a:xfrm>
            <a:off x="1523880" y="609480"/>
            <a:ext cx="609624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895480" y="5486400"/>
            <a:ext cx="339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ccer 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Turkey Ballerina on Steroids"/>
          <p:cNvPicPr/>
          <p:nvPr/>
        </p:nvPicPr>
        <p:blipFill>
          <a:blip r:embed="rId1"/>
          <a:stretch/>
        </p:blipFill>
        <p:spPr>
          <a:xfrm>
            <a:off x="2514600" y="685800"/>
            <a:ext cx="377208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505320" y="5867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ller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95316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666880" y="5943600"/>
            <a:ext cx="39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ident Bus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753080" cy="5181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5791320"/>
            <a:ext cx="3314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kateboar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dsc00369.jpg"/>
          <p:cNvPicPr/>
          <p:nvPr/>
        </p:nvPicPr>
        <p:blipFill>
          <a:blip r:embed="rId1"/>
          <a:stretch/>
        </p:blipFill>
        <p:spPr>
          <a:xfrm>
            <a:off x="2819520" y="1143000"/>
            <a:ext cx="350496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962520" y="5943600"/>
            <a:ext cx="80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dsc00370.jpg"/>
          <p:cNvPicPr/>
          <p:nvPr/>
        </p:nvPicPr>
        <p:blipFill>
          <a:blip r:embed="rId1"/>
          <a:stretch/>
        </p:blipFill>
        <p:spPr>
          <a:xfrm>
            <a:off x="2943360" y="1143000"/>
            <a:ext cx="325728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733920" y="5943600"/>
            <a:ext cx="192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wbo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dsc00374.jpg"/>
          <p:cNvPicPr/>
          <p:nvPr/>
        </p:nvPicPr>
        <p:blipFill>
          <a:blip r:embed="rId1"/>
          <a:stretch/>
        </p:blipFill>
        <p:spPr>
          <a:xfrm>
            <a:off x="2971800" y="68580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895480" y="5638680"/>
            <a:ext cx="3638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istmas tr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dsc00379.jpg"/>
          <p:cNvPicPr/>
          <p:nvPr/>
        </p:nvPicPr>
        <p:blipFill>
          <a:blip r:embed="rId1"/>
          <a:stretch/>
        </p:blipFill>
        <p:spPr>
          <a:xfrm>
            <a:off x="1828800" y="380880"/>
            <a:ext cx="5486400" cy="5443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67080" y="601992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family homework project angel turkey"/>
          <p:cNvPicPr/>
          <p:nvPr/>
        </p:nvPicPr>
        <p:blipFill>
          <a:blip r:embed="rId1"/>
          <a:stretch/>
        </p:blipFill>
        <p:spPr>
          <a:xfrm>
            <a:off x="2741760" y="685800"/>
            <a:ext cx="335592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733920" y="5867280"/>
            <a:ext cx="137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family homework project hula turkey"/>
          <p:cNvPicPr/>
          <p:nvPr/>
        </p:nvPicPr>
        <p:blipFill>
          <a:blip r:embed="rId1"/>
          <a:stretch/>
        </p:blipFill>
        <p:spPr>
          <a:xfrm>
            <a:off x="2971800" y="609480"/>
            <a:ext cx="320508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200400" y="5715000"/>
            <a:ext cx="280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la tur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657600" y="5867280"/>
            <a:ext cx="149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e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429000" y="5867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362320" y="6019920"/>
            <a:ext cx="412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torcycle ri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12128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76720" y="5943600"/>
            <a:ext cx="2638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me cl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048120" y="5791320"/>
            <a:ext cx="2971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nge Bo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829320" cy="5105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124080" y="5943600"/>
            <a:ext cx="261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ider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733920" y="5943600"/>
            <a:ext cx="149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n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43240" y="45720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62520" y="601992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809880" y="5943600"/>
            <a:ext cx="16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ur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86200" y="5867280"/>
            <a:ext cx="1266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057560" cy="5410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352680" y="6019920"/>
            <a:ext cx="24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3828960" cy="510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276720" y="5791320"/>
            <a:ext cx="21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umpk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733920" y="594360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l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743200" y="6019920"/>
            <a:ext cx="34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iry mons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352680" y="5867280"/>
            <a:ext cx="2486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refigh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000320" cy="5333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962520" y="6019920"/>
            <a:ext cx="146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rf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057560" cy="5410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9880" y="59436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or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505320" y="5867280"/>
            <a:ext cx="1923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t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743200" y="5867280"/>
            <a:ext cx="3666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ace car d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000320" cy="5333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200400" y="601992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ack c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12128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962520" y="60199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b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97240" y="53352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733920" y="601992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97240" y="533520"/>
            <a:ext cx="4006800" cy="533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124080" y="6019920"/>
            <a:ext cx="248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irl Sc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45720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819520" y="5943600"/>
            <a:ext cx="3324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 Tur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2:46:37Z</dcterms:created>
  <dc:creator>Technology</dc:creator>
  <dc:description/>
  <dc:language>en-US</dc:language>
  <cp:lastModifiedBy>LOCKHART ISD</cp:lastModifiedBy>
  <dcterms:modified xsi:type="dcterms:W3CDTF">2008-11-03T14:35:42Z</dcterms:modified>
  <cp:revision>2</cp:revision>
  <dc:subject/>
  <dc:title>Slide 1</dc:title>
</cp:coreProperties>
</file>